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DD2-7D08-4424-B6DD-33CC4937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1C0-987D-420E-8471-31D8F22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E2A-F511-4AE2-8992-E64D213C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F87-B30A-4B9A-BEA6-8CF00A23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803E-6862-45D0-B82E-D226633C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EE4-02DC-4A6D-B479-1F3386E3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E357-3971-426E-810F-F5CCA3D0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418B-4DFF-452C-87E7-941DDCF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F07B-8E93-4C15-86C4-14BD9925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836-A77E-4F50-AC37-00833D35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F37A-4344-4EA8-A2AE-84A716BF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95B-BA34-4A78-AB0F-ED46B8B8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AEF2-E271-4B2D-A8B0-8372CF71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222A-EBF7-47FA-8C30-0C7F12F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C6EE-1C38-40A0-975F-CE06D092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E74A-74F3-47CD-934D-FB3476BA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1178-188E-4631-9314-EAFC7D01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671-B1BA-45D8-83D5-F53102B7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91C-28B4-44AA-8DCE-64E4DE26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38E-8D92-4807-879F-FDADA1BD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5CF-4142-4332-A55D-0536801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087-458B-4047-B18E-9F75EECF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4B6-2290-41B0-B303-2E2A721F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890-82B8-452C-A104-8A2BB5C1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2C89-D102-46CF-BF75-72EAA0748C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12C5-0102-453D-9945-682E767C68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enudd.com/myth/greek/images/pythagora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5818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484280"/>
            <a:ext cx="989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T H E O R E M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P Y T H A G O R A 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80880" y="1981080"/>
            <a:ext cx="3047760" cy="2324880"/>
            <a:chOff x="380880" y="1981080"/>
            <a:chExt cx="3047760" cy="2324880"/>
          </a:xfrm>
        </p:grpSpPr>
        <p:grpSp>
          <p:nvGrpSpPr>
            <p:cNvPr id="252" name=""/>
            <p:cNvGrpSpPr/>
            <p:nvPr/>
          </p:nvGrpSpPr>
          <p:grpSpPr>
            <a:xfrm>
              <a:off x="1025640" y="1981080"/>
              <a:ext cx="2403000" cy="1703160"/>
              <a:chOff x="1025640" y="1981080"/>
              <a:chExt cx="2403000" cy="1703160"/>
            </a:xfrm>
          </p:grpSpPr>
          <p:sp>
            <p:nvSpPr>
              <p:cNvPr id="253" name=""/>
              <p:cNvSpPr/>
              <p:nvPr/>
            </p:nvSpPr>
            <p:spPr>
              <a:xfrm>
                <a:off x="1025640" y="1981080"/>
                <a:ext cx="2403000" cy="1703160"/>
              </a:xfrm>
              <a:prstGeom prst="rtTriangl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025640" y="3400200"/>
                <a:ext cx="351360" cy="28368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670400" y="2193840"/>
              <a:ext cx="175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880" y="2548440"/>
              <a:ext cx="703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7400" y="3755160"/>
              <a:ext cx="704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38480" y="1897200"/>
            <a:ext cx="4191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e Theorem Pythagoras yn dweu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962520" y="4267080"/>
            <a:ext cx="3886200" cy="1066680"/>
            <a:chOff x="3962520" y="4267080"/>
            <a:chExt cx="3886200" cy="1066680"/>
          </a:xfrm>
        </p:grpSpPr>
        <p:sp>
          <p:nvSpPr>
            <p:cNvPr id="260" name=""/>
            <p:cNvSpPr/>
            <p:nvPr/>
          </p:nvSpPr>
          <p:spPr>
            <a:xfrm>
              <a:off x="3962520" y="4267080"/>
              <a:ext cx="3886200" cy="1066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51520" y="4524120"/>
              <a:ext cx="35082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h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= a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 +  b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99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 gyfer y trionglau canlynol, ysgrifennwch Theorem Pythagoras ar eu cy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33520" y="2895480"/>
            <a:ext cx="1295280" cy="1600200"/>
            <a:chOff x="533520" y="2895480"/>
            <a:chExt cx="1295280" cy="1600200"/>
          </a:xfrm>
        </p:grpSpPr>
        <p:sp>
          <p:nvSpPr>
            <p:cNvPr id="265" name=""/>
            <p:cNvSpPr/>
            <p:nvPr/>
          </p:nvSpPr>
          <p:spPr>
            <a:xfrm>
              <a:off x="533520" y="2895480"/>
              <a:ext cx="1295280" cy="16002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20" y="4190760"/>
              <a:ext cx="304920" cy="3049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047760" y="3048120"/>
            <a:ext cx="1904760" cy="1143000"/>
            <a:chOff x="3047760" y="3048120"/>
            <a:chExt cx="1904760" cy="1143000"/>
          </a:xfrm>
        </p:grpSpPr>
        <p:sp>
          <p:nvSpPr>
            <p:cNvPr id="268" name=""/>
            <p:cNvSpPr/>
            <p:nvPr/>
          </p:nvSpPr>
          <p:spPr>
            <a:xfrm flipH="1">
              <a:off x="3047400" y="3048120"/>
              <a:ext cx="190476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7960" y="3886200"/>
              <a:ext cx="30456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934320" y="2743200"/>
            <a:ext cx="1295280" cy="2209680"/>
            <a:chOff x="6934320" y="2743200"/>
            <a:chExt cx="1295280" cy="2209680"/>
          </a:xfrm>
        </p:grpSpPr>
        <p:sp>
          <p:nvSpPr>
            <p:cNvPr id="271" name=""/>
            <p:cNvSpPr/>
            <p:nvPr/>
          </p:nvSpPr>
          <p:spPr>
            <a:xfrm flipV="1">
              <a:off x="6934320" y="2743200"/>
              <a:ext cx="1295280" cy="220968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34320" y="2743200"/>
              <a:ext cx="304920" cy="30456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495288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495288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498312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99072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28600" y="1905120"/>
            <a:ext cx="3733560" cy="2288520"/>
            <a:chOff x="228600" y="1905120"/>
            <a:chExt cx="3733560" cy="2288520"/>
          </a:xfrm>
        </p:grpSpPr>
        <p:grpSp>
          <p:nvGrpSpPr>
            <p:cNvPr id="288" name=""/>
            <p:cNvGrpSpPr/>
            <p:nvPr/>
          </p:nvGrpSpPr>
          <p:grpSpPr>
            <a:xfrm>
              <a:off x="1295280" y="1905120"/>
              <a:ext cx="2666880" cy="1752480"/>
              <a:chOff x="1295280" y="1905120"/>
              <a:chExt cx="2666880" cy="1752480"/>
            </a:xfrm>
          </p:grpSpPr>
          <p:sp>
            <p:nvSpPr>
              <p:cNvPr id="289" name=""/>
              <p:cNvSpPr/>
              <p:nvPr/>
            </p:nvSpPr>
            <p:spPr>
              <a:xfrm>
                <a:off x="1295280" y="1905120"/>
                <a:ext cx="2666880" cy="1752480"/>
              </a:xfrm>
              <a:prstGeom prst="rtTriangle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95280" y="3505320"/>
                <a:ext cx="152280" cy="152280"/>
              </a:xfrm>
              <a:prstGeom prst="rect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057400" y="3733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46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648320" y="1905120"/>
            <a:ext cx="32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8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2514600"/>
            <a:ext cx="266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6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8320" y="327672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724280" y="4038480"/>
            <a:ext cx="1905120" cy="505440"/>
            <a:chOff x="4724280" y="4038480"/>
            <a:chExt cx="1905120" cy="505440"/>
          </a:xfrm>
        </p:grpSpPr>
        <p:sp>
          <p:nvSpPr>
            <p:cNvPr id="298" name=""/>
            <p:cNvSpPr/>
            <p:nvPr/>
          </p:nvSpPr>
          <p:spPr>
            <a:xfrm>
              <a:off x="4724280" y="40384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r>
                <a:rPr b="1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700" spc="-1" strike="noStrike">
                  <a:solidFill>
                    <a:srgbClr val="000000"/>
                  </a:solidFill>
                  <a:latin typeface="Comic Sans MS"/>
                </a:rPr>
                <a:t>10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8640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724280" y="4724280"/>
            <a:ext cx="190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10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3720" y="5486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fiwch mai yr hypotenws yw’r ochr hiraf bob tro, felly mae’r ateb yma yn gwneud synnw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907920"/>
            <a:ext cx="619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1557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rganfyddwch hyd yr hypotenws ar gyfer y trionglau canly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93880" y="2895480"/>
            <a:ext cx="1590120" cy="1612800"/>
            <a:chOff x="893880" y="2895480"/>
            <a:chExt cx="1590120" cy="1612800"/>
          </a:xfrm>
        </p:grpSpPr>
        <p:sp>
          <p:nvSpPr>
            <p:cNvPr id="308" name=""/>
            <p:cNvSpPr/>
            <p:nvPr/>
          </p:nvSpPr>
          <p:spPr>
            <a:xfrm>
              <a:off x="893880" y="2895480"/>
              <a:ext cx="1590120" cy="16128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3880" y="4201200"/>
              <a:ext cx="374040" cy="3070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11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14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111600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429000"/>
            <a:ext cx="9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mm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636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4800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1964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32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635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6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600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5964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981000"/>
            <a:ext cx="66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295280" y="1905120"/>
            <a:ext cx="2666880" cy="1752480"/>
            <a:chOff x="1295280" y="1905120"/>
            <a:chExt cx="2666880" cy="1752480"/>
          </a:xfrm>
        </p:grpSpPr>
        <p:sp>
          <p:nvSpPr>
            <p:cNvPr id="329" name=""/>
            <p:cNvSpPr/>
            <p:nvPr/>
          </p:nvSpPr>
          <p:spPr>
            <a:xfrm>
              <a:off x="1295280" y="1905120"/>
              <a:ext cx="2666880" cy="1752480"/>
            </a:xfrm>
            <a:prstGeom prst="rtTriangle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5280" y="3505320"/>
              <a:ext cx="152280" cy="152280"/>
            </a:xfrm>
            <a:prstGeom prst="rect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5740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14600" y="2286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1844640"/>
            <a:ext cx="32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421000"/>
            <a:ext cx="223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= 16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3068640"/>
            <a:ext cx="25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– 16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56000" y="3645000"/>
            <a:ext cx="2592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4292640"/>
            <a:ext cx="208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3280" y="4941720"/>
            <a:ext cx="223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1" name=""/>
          <p:cNvSpPr/>
          <p:nvPr/>
        </p:nvSpPr>
        <p:spPr>
          <a:xfrm>
            <a:off x="135720" y="836640"/>
            <a:ext cx="148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341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Darganfyddwch yr hyd coll ar gyfer y trionglau canly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971640" y="2276640"/>
            <a:ext cx="1512360" cy="2231640"/>
            <a:chOff x="971640" y="2276640"/>
            <a:chExt cx="1512360" cy="2231640"/>
          </a:xfrm>
        </p:grpSpPr>
        <p:sp>
          <p:nvSpPr>
            <p:cNvPr id="344" name=""/>
            <p:cNvSpPr/>
            <p:nvPr/>
          </p:nvSpPr>
          <p:spPr>
            <a:xfrm>
              <a:off x="971640" y="2276640"/>
              <a:ext cx="1512360" cy="223164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71640" y="4083120"/>
              <a:ext cx="356040" cy="42516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47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50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042920" y="4508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47640" y="3284640"/>
            <a:ext cx="11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0920" y="29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32360" y="522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2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43280" y="5013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.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80000" y="5950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08720" y="3860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8.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96000" y="3500280"/>
            <a:ext cx="5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"/>
          <p:cNvSpPr/>
          <p:nvPr/>
        </p:nvSpPr>
        <p:spPr>
          <a:xfrm>
            <a:off x="324000" y="907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OCHRAU TRIONGL ISOSGE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50920" y="2276640"/>
            <a:ext cx="3313080" cy="2665800"/>
            <a:chOff x="250920" y="2276640"/>
            <a:chExt cx="3313080" cy="2665800"/>
          </a:xfrm>
        </p:grpSpPr>
        <p:sp>
          <p:nvSpPr>
            <p:cNvPr id="364" name=""/>
            <p:cNvSpPr/>
            <p:nvPr/>
          </p:nvSpPr>
          <p:spPr>
            <a:xfrm>
              <a:off x="250920" y="2276640"/>
              <a:ext cx="2017440" cy="223200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6920" y="4437000"/>
              <a:ext cx="1297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340000" y="22766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11280" y="292428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427640" y="1989000"/>
            <a:ext cx="367344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fiwch: Mae Theorem Pythagoras dim ond yn gweithio ar gyfer trionglau ongl sgw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âr, felly mae’n rhaid rhannu’r triongl yn ddau er mwyn cael triongl ongl </a:t>
            </a: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sgw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â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58920" y="2276640"/>
            <a:ext cx="100944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46920" y="2276640"/>
            <a:ext cx="100980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588000" y="234936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3068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20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47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92360" y="321300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3716280"/>
            <a:ext cx="27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19640" y="4221000"/>
            <a:ext cx="29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4653000"/>
            <a:ext cx="30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√5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32000" y="5157720"/>
            <a:ext cx="345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7.2cm (1.ll.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4200" y="400536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520360" y="29606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53000">
            <a:off x="4210920" y="270828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7628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cm x 5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25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0" y="429264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cm x 3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9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2349360"/>
            <a:ext cx="252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cm x 4cm =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16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  </a:t>
            </a: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 ongl sgw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â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4680" y="3029040"/>
            <a:ext cx="2135160" cy="1430280"/>
          </a:xfrm>
          <a:custGeom>
            <a:avLst/>
            <a:gdLst/>
            <a:ahLst/>
            <a:rect l="l" t="t" r="r" b="b"/>
            <a:pathLst>
              <a:path w="1345" h="901">
                <a:moveTo>
                  <a:pt x="1345" y="901"/>
                </a:moveTo>
                <a:cubicBezTo>
                  <a:pt x="1321" y="847"/>
                  <a:pt x="1295" y="793"/>
                  <a:pt x="1282" y="735"/>
                </a:cubicBezTo>
                <a:cubicBezTo>
                  <a:pt x="1271" y="684"/>
                  <a:pt x="1265" y="647"/>
                  <a:pt x="1242" y="601"/>
                </a:cubicBezTo>
                <a:cubicBezTo>
                  <a:pt x="1216" y="548"/>
                  <a:pt x="1191" y="470"/>
                  <a:pt x="1140" y="435"/>
                </a:cubicBezTo>
                <a:cubicBezTo>
                  <a:pt x="1112" y="306"/>
                  <a:pt x="1114" y="275"/>
                  <a:pt x="998" y="207"/>
                </a:cubicBezTo>
                <a:cubicBezTo>
                  <a:pt x="900" y="60"/>
                  <a:pt x="684" y="49"/>
                  <a:pt x="524" y="41"/>
                </a:cubicBezTo>
                <a:cubicBezTo>
                  <a:pt x="402" y="0"/>
                  <a:pt x="494" y="24"/>
                  <a:pt x="240" y="33"/>
                </a:cubicBezTo>
                <a:cubicBezTo>
                  <a:pt x="192" y="50"/>
                  <a:pt x="223" y="35"/>
                  <a:pt x="161" y="96"/>
                </a:cubicBezTo>
                <a:cubicBezTo>
                  <a:pt x="148" y="108"/>
                  <a:pt x="129" y="110"/>
                  <a:pt x="114" y="120"/>
                </a:cubicBezTo>
                <a:cubicBezTo>
                  <a:pt x="86" y="162"/>
                  <a:pt x="77" y="186"/>
                  <a:pt x="27" y="199"/>
                </a:cubicBezTo>
                <a:cubicBezTo>
                  <a:pt x="0" y="218"/>
                  <a:pt x="4" y="206"/>
                  <a:pt x="4" y="23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870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elly     25 = 16 + 9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281680" y="1268280"/>
            <a:ext cx="501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5 x 5) = (4x4) + (3x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42960" y="2060640"/>
            <a:ext cx="26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+ 3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141720"/>
            <a:ext cx="2952720" cy="11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r Hypotenw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(yr ochr hirr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5280" y="3141720"/>
            <a:ext cx="2952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 ddwy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76360" y="2708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4724280"/>
            <a:ext cx="7201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Theorem Pythagor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= a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+ b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4797360"/>
            <a:ext cx="2016360" cy="11527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50864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30920" y="5878440"/>
            <a:ext cx="8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494172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184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755640" y="270972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79640" y="127008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196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55640" y="2709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9640" y="12700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7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-216360" y="244800"/>
            <a:ext cx="2953080" cy="2553840"/>
            <a:chOff x="-216360" y="244800"/>
            <a:chExt cx="2953080" cy="2553840"/>
          </a:xfrm>
        </p:grpSpPr>
        <p:sp>
          <p:nvSpPr>
            <p:cNvPr id="208" name=""/>
            <p:cNvSpPr/>
            <p:nvPr/>
          </p:nvSpPr>
          <p:spPr>
            <a:xfrm rot="11742000">
              <a:off x="0" y="54900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7142000">
              <a:off x="2298960" y="91836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692360" y="1557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8000" y="98100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333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981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3862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29462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8380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 Black"/>
              </a:rPr>
              <a:t>YR ATE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1676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38862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Darganfod hyd un ochr triongl ongl sgwar"/>
          <p:cNvPicPr/>
          <p:nvPr/>
        </p:nvPicPr>
        <p:blipFill>
          <a:blip r:embed="rId2"/>
          <a:stretch/>
        </p:blipFill>
        <p:spPr>
          <a:xfrm>
            <a:off x="3048120" y="4648320"/>
            <a:ext cx="2971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371600" y="2362320"/>
            <a:ext cx="6553080" cy="1747440"/>
            <a:chOff x="1371600" y="2362320"/>
            <a:chExt cx="6553080" cy="1747440"/>
          </a:xfrm>
        </p:grpSpPr>
        <p:sp>
          <p:nvSpPr>
            <p:cNvPr id="238" name=""/>
            <p:cNvSpPr/>
            <p:nvPr/>
          </p:nvSpPr>
          <p:spPr>
            <a:xfrm>
              <a:off x="1447920" y="2438280"/>
              <a:ext cx="6476760" cy="1295640"/>
            </a:xfrm>
            <a:prstGeom prst="flowChartAlternate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76520" y="2514600"/>
              <a:ext cx="60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71600" y="2362320"/>
              <a:ext cx="6553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Cyfanswm arwynebedd y ddau sgwar lleiaf    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yw arwynebedd y sgwar mwyaf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MAE HYN YN WIR BOB TR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Mae rheol i'w chael sy'n cysylltu hyd tair ochr triongl ongl sgwâr. Enw'r rheol honno yw </a:t>
            </a:r>
            <a:r>
              <a:rPr b="1" lang="en-GB" sz="2700" spc="-1" strike="noStrike">
                <a:solidFill>
                  <a:srgbClr val="9900ff"/>
                </a:solidFill>
                <a:latin typeface="Comic Sans MS"/>
              </a:rPr>
              <a:t>T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eorem Pythagoras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590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2438280"/>
            <a:ext cx="8229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Defnyddir Theorem Pythagoras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ddarganfod hyd ochr coll mewn triongl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ngl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sgwâr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066680" y="3733920"/>
            <a:ext cx="3124440" cy="1828800"/>
            <a:chOff x="1066680" y="3733920"/>
            <a:chExt cx="3124440" cy="1828800"/>
          </a:xfrm>
        </p:grpSpPr>
        <p:sp>
          <p:nvSpPr>
            <p:cNvPr id="246" name=""/>
            <p:cNvSpPr/>
            <p:nvPr/>
          </p:nvSpPr>
          <p:spPr>
            <a:xfrm>
              <a:off x="1066680" y="3733920"/>
              <a:ext cx="3124440" cy="182880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66680" y="5257800"/>
              <a:ext cx="457200" cy="3049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0" y="3809880"/>
            <a:ext cx="365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sydd gyferbyn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â’r ongl sgwâr yw yr ochr hiraf yn y triongl. Enw’r ochr yma ydy 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ypoten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337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ypote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6:42:01Z</dcterms:created>
  <dc:creator>Goss</dc:creator>
  <dc:description/>
  <dc:language>en-US</dc:language>
  <cp:lastModifiedBy>Betsan Wyn Thomas</cp:lastModifiedBy>
  <dcterms:modified xsi:type="dcterms:W3CDTF">2008-01-28T22:02:59Z</dcterms:modified>
  <cp:revision>57</cp:revision>
  <dc:subject/>
  <dc:title>Rhifau Negatif</dc:title>
</cp:coreProperties>
</file>